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352000" y="63817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DDB6-3B25-4A4A-9132-0ADAE24B6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02480" y="6203880"/>
            <a:ext cx="26532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052640"/>
            <a:ext cx="8458200" cy="7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893080" y="19080"/>
            <a:ext cx="18432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752480" y="5334120"/>
            <a:ext cx="2971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hyperlink" Target="file:///Pegasus_launch.avi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04920"/>
            <a:ext cx="8704440" cy="6305400"/>
          </a:xfrm>
          <a:prstGeom prst="roundRect">
            <a:avLst>
              <a:gd name="adj" fmla="val 12370"/>
            </a:avLst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33480" y="1390680"/>
            <a:ext cx="756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80880"/>
            <a:ext cx="69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bd Systems, Inc.</a:t>
            </a:r>
            <a:br>
              <a:rPr sz="2800"/>
            </a:b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Advanced Technology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828800"/>
            <a:ext cx="7696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99"/>
                </a:solidFill>
                <a:latin typeface="Arial"/>
              </a:rPr>
              <a:t>Waveform Reconstruction via Wavelets  </a:t>
            </a:r>
            <a:br>
              <a:rPr sz="2700"/>
            </a:br>
            <a:br>
              <a:rPr sz="2700"/>
            </a:b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By Tom Irvine</a:t>
            </a:r>
            <a:r>
              <a:rPr b="1" lang="en-US" sz="2700" spc="-1" strike="noStrike">
                <a:solidFill>
                  <a:srgbClr val="006699"/>
                </a:solidFill>
                <a:latin typeface="Arial"/>
              </a:rPr>
              <a:t>     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June 27-29, 2006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br>
              <a:rPr sz="1800"/>
            </a:br>
            <a:br>
              <a:rPr sz="2200"/>
            </a:br>
            <a:br>
              <a:rPr sz="15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867280" y="4545000"/>
          <a:ext cx="2686320" cy="163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545000"/>
                    <a:ext cx="268632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952880" y="457200"/>
            <a:ext cx="358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Vibrationdata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ulting and Educational Ser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219320"/>
            <a:ext cx="8458200" cy="7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92000" y="5157720"/>
            <a:ext cx="12193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Inno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15328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wavelet series may also be used to reconstruct a time histo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The wavelets are non-orthogona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s is done using brute-force curve fitting with random number  gene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esulting series satisfies both the time history and the S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84720" y="63817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d Systems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Vibration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Example 1:  Single Time Hi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0248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Wavelet Series with 3 of 60 Compon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662148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More Synthesized Pulse Time Histor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621480" cy="2527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657396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Example 1:  SRS of Wavelet S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68340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Example 1: Co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avelet time history can be performed as shaker shock, satisfying both time history and SR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d safety margin if appropri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84720" y="63817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d Systems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Vibration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Multiple Wave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econstruction method can be extended for the case where multiple measurements are taken in the same axis over a number of accelerometer locations or fligh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patial and flight-to-flight variation are both concer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84720" y="63817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d Systems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Vibration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Example 2.    Four Measured Time His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662148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P95/50 S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6532560" cy="47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Example 2:  Composite Signal Deri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665360"/>
            <a:ext cx="825516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d the four signa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time scale and invert amplitudes as necessary to achieve highest GRMS val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 brute force random number gene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aling in next steps will compensate for potential constructive and destructive interference in composite pulse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84720" y="63817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d Systems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Vibration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Acknowled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initial funding for this project was provided b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438280"/>
            <a:ext cx="6432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bin Ferebe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chnical 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lid Rocket Booster (SRB) Project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w with NASA/Marshall Space Flight Cen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79640" y="4941720"/>
            <a:ext cx="651672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ock Testing of the SRB IEA Avionics Compon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proving Shock Testing Methods in Gene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4720" y="63817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d Systems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Vibration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4365720"/>
            <a:ext cx="565164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ASA is concerned wit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Example 2:  Composite Sig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0208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Example 2:  Synthesis and Scaling Ste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ynthesize a wavelet time history to match composite pul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-scale wavelet parameters so the wavelet SRS satisfies the P95/50 S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rute force random number generation is used for each ste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nal time history should “reasonably resemble” the composite of the four original signa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84720" y="63817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d Systems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Vibration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Example 2:  Resulting Time Histo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6621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Example 2:  Time History Compari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6554880" cy="245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61660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Example 2:  More Time His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621480" cy="2527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657396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Example 2:  SRS Compari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6834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Example 2:  Co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58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ynthesized wavelet series can be performed as a shaker shock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th composite pulse and P95/50 SRS are satisfi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84720" y="63817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d Systems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Vibration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Example 3:  Pegasus Launch Vehi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3476880" cy="5029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ALEX"/>
          <p:cNvPicPr/>
          <p:nvPr/>
        </p:nvPicPr>
        <p:blipFill>
          <a:blip r:embed="rId2"/>
          <a:stretch/>
        </p:blipFill>
        <p:spPr>
          <a:xfrm>
            <a:off x="4191120" y="1981080"/>
            <a:ext cx="4647960" cy="3486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896000" y="580536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for Video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Example 3:  Payload Dynamic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egasus vehicle vibrates like a free-free beam as it is dropped from the L-101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oscillation is a damped sinusoid, with a frequency of about 9 to 10 Hz, depending on the coupled-loads analysis resul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ayload must be designed and preferably tested to withstand this loa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rop transient cannot be directly performed on a shaker table, however, due to the resulting high net displace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a:  synthesize wavelet series to represent drop transient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63817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d Systems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Vibration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Example 3: Normalized Drop Transient Accel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95280" y="4000680"/>
            <a:ext cx="6454800" cy="2857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6399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tch both measured time domain signal and corresponding SRS for shaker shock testing, using a series of wavele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del other transient pulses with wavelet seri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e Creative, Think outside the Bo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84720" y="63817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d Systems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Vibration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Example 3: Corresponding Velocity &amp; Displac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50920" y="4000680"/>
            <a:ext cx="6715080" cy="2857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368360" y="1125360"/>
            <a:ext cx="6311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Future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prove convergence algorith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timize waveforms to minimize peak velocity and displacement while still meeting other goa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so consider mechanical impedance and force limiting concerns in shock tes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 an opportunity to test real hardware using this method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olution Looking for a Probl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84720" y="63817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d Systems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Vibration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9280" y="1413000"/>
            <a:ext cx="7596000" cy="44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erospace &amp; military components are subjected to shock test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verify their integrity with respect to shock environmen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pecification format may b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rop onto hard surface from prescribed heigh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L-S-901 shock mach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assical pulse such as half-s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ock Response Spectrum (SR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RS is the most common format for launch vehicle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84720" y="63817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d Systems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Vibration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SRS Ani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333760" cy="2689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52480" y="4191120"/>
            <a:ext cx="541044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tural Frequencies (Hz)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.063      0.125       0.25        0.50        1.0          2.0          4.0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048120"/>
            <a:ext cx="990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91520" y="3048120"/>
            <a:ext cx="838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57150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imation File:  HS_SRS.avi    Click on image to beg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1814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Input: 1 G, 1 sec Half-sine Pu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Shaker Sh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133800" cy="4181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62520" y="1905120"/>
            <a:ext cx="396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16000" y="981000"/>
            <a:ext cx="4876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hock test may be performed on a   shaker if the shaker’s frequency and amplitude capabilities are su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4520" indent="0" algn="just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ime history must be synthesized to meet the SRS specific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45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damped sines or wave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45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t velocity and net displacement must be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4520" indent="0" algn="just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84720" y="63817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d Systems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Vibration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SRS Syn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7924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series of wavelets can be synthesized to satisfy an SRS specification for shaker shoc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avelets have zero net displacement and zero net veloc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mped sines require compensation pul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ssume control computer accepts ASCII text time history file for shock test in following examp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84720" y="63817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d Systems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Vibration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Wavelet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876920" y="3276720"/>
                <a:ext cx="2971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t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66680" y="1785960"/>
                <a:ext cx="67057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09480" y="4800600"/>
            <a:ext cx="815364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100" spc="-1" strike="noStrike" baseline="-8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t) = acceleration at time t for wavelet 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1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acceleration amplitude                f </a:t>
            </a:r>
            <a:r>
              <a:rPr b="0" lang="en-US" sz="21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frequency          t </a:t>
            </a:r>
            <a:r>
              <a:rPr b="0" lang="en-US" sz="2100" spc="-1" strike="noStrike" baseline="-10000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dela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1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= number of half-sines, odd integer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27280" y="404280"/>
            <a:ext cx="53337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Sample Wavel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1449360"/>
            <a:ext cx="652644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29:38Z</dcterms:created>
  <dc:creator> </dc:creator>
  <dc:description/>
  <dc:language>en-US</dc:language>
  <cp:lastModifiedBy>Thomas Irvine</cp:lastModifiedBy>
  <dcterms:modified xsi:type="dcterms:W3CDTF">2006-06-03T16:25:14Z</dcterms:modified>
  <cp:revision>141</cp:revision>
  <dc:subject/>
  <dc:title>Joe’s Loads Concept</dc:title>
</cp:coreProperties>
</file>