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E6D-8C0B-46D7-A37D-55D598D6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C95-4493-4951-A52D-E241FB5E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908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FCE-579A-4FAD-B8CB-A73475AC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76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27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76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27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627-1DC1-44F8-9595-28089A89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F148-6869-4205-8DE2-ECC3E575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EFDF-CA5D-46F4-A110-D3E1059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936A-D934-491C-9BB1-2336D485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857F-1091-4F89-86A1-D5820FE8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03A-32AE-448A-989E-41C4A658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7720" y="914040"/>
            <a:ext cx="5334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CFC1-CDBB-40C3-ABD9-0BAA889D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AB11-AA83-4981-B9CB-62656B0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745-8D3A-482E-905D-F3E04937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6908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9031-328D-4C5B-BC6D-C47559F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5C69-11E8-4A25-B5D1-A59A4200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7FA0-C6FC-44FF-8AF6-D1B003D8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6908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F0E8-E6FD-4FB4-BF5E-CE1B1338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76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27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76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27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7BA1-747E-4CDA-97E7-087CE058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138-3ABE-4104-A392-8EE787C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0DA-CEBA-4E42-93CE-87086FDA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CEF-3CCD-4CBD-8E2A-3EE1CF99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914040"/>
            <a:ext cx="5334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E33-AF57-4BF2-A088-50D6259C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006-050A-40FD-B07A-09B4EE0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908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AF6-30EA-4BC0-8842-5293FC7C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908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448-58A0-47AC-9759-3598966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1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1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B398-04D6-4C33-BE44-585C1BE7AB8A}" type="slidenum">
              <a:rPr b="0" lang="en-US" sz="1400" spc="-1" strike="noStrike">
                <a:solidFill>
                  <a:srgbClr val="01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19520" y="1295280"/>
            <a:ext cx="60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Black"/>
              </a:rPr>
              <a:t>Vibration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1752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D38E-3C92-47B3-A2B5-7155869DAB6B}" type="slidenum">
              <a:rPr b="0" lang="en-US" sz="1400" spc="-1" strike="noStrike">
                <a:solidFill>
                  <a:srgbClr val="01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nit 31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437920"/>
            <a:ext cx="64767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SO 2631-1:1997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Mechanical Vibration and Shock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Evaluation of Human Exposure to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Whole-body Vibration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C95-25F3-42A5-84EC-264864A76D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eighting Factor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sensitivity of the body to vibration in each axis is accounted for by multiplying factors. 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frequency-weighted acceleration (m/s²) is multiplied by the weighting factor before its effect is assessed. 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9E7-54DB-4AA3-AF88-DC87512425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Frequency Domai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0.5 Hz to 80 Hz for health, comfort, and perception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0.1 Hz to 0.5 Hz for motion sickness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683-5EB8-4CA2-A404-7829F61461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26708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3A6-ADA2-4A6C-9D89-79F2FBF14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3657600" cy="38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657600" cy="216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E20-F9BA-4ABC-9DF7-F136C8F447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191120" cy="245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507-D591-4783-9AC4-FB391528A8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00800" cy="411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50E-2A80-49EE-B48A-866E77BA1B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019920" cy="38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086-743E-4DDF-8F8D-EB0C2224FA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eighted RM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Time Domain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057400"/>
                <a:ext cx="35049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  <m:sup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066680" y="36576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Frequency Domain  FFT magn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52680" y="4267080"/>
                <a:ext cx="27432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  <m:sup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24080" y="5791320"/>
                <a:ext cx="5209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209680" y="5791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791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s peak (m/s^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E89-9745-4DBB-9ABF-AD7D497743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Calculation Procedure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1.   Divide time history into one or more segments  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2.   Take FFT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3.   Apply weights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4.   Calculated overall level from weighted FFT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5.   Convert to equivalent 8 hour exposure if necessary, as shown in next slide  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6.   Compare weighted exposure to ISO 2631 Health Guidance Graph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CC3-0661-4C0E-9487-CC1E1DAEF3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quivalent Exposure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Goal is to convert measured data into equivalent 8 hour level, as appropriate.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Two approaches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                                                                                </a:t>
            </a:r>
            <a:endParaRPr b="1" lang="en-US" sz="1000" spc="-1" strike="noStrike">
              <a:solidFill>
                <a:srgbClr val="01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                                                                            </a:t>
            </a:r>
            <a:endParaRPr b="1" lang="en-US" sz="1000" spc="-1" strike="noStrike">
              <a:solidFill>
                <a:srgbClr val="01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09680" y="3733920"/>
                <a:ext cx="2971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/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/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62320" y="4876920"/>
                <a:ext cx="2819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/4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/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6629400" y="3809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5029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308-4BB8-4DEA-9383-02B0ED8D62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43600" y="2057400"/>
            <a:ext cx="4968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Human Vibration Concerns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209680"/>
            <a:ext cx="6400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ISO 26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1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uman Health and Com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1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Probability of Vibration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1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Incidence of Motion S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724280"/>
            <a:ext cx="6476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ated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1.  Task performance – vision, speech, han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2A2-AC33-4837-9EE9-4EFF96D89B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019920" cy="435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DA3-DA17-4364-B103-1728864EEC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                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1430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oftwar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95280" y="2286000"/>
          <a:ext cx="5714640" cy="3200400"/>
        </p:xfrm>
        <a:graphic>
          <a:graphicData uri="http://schemas.openxmlformats.org/drawingml/2006/table">
            <a:tbl>
              <a:tblPr/>
              <a:tblGrid>
                <a:gridCol w="2857680"/>
                <a:gridCol w="28569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Convert time history to weighted accele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th_weight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Convert FFT magnitude to weighted accele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ftm_weighted.ex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Convert PSD to weighted accele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psd_weighted.ex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2BD-9259-446B-94AB-06B34F4F07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xercise 1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647676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File seat.txt is a synthesized white noise time history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Assume that seat.txt is measured data in (m/sec^2)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Calculate the weighted level using program th_weighted.exe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elect a weighting function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Compare results with ISO 2631 Health Graph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Repeat using other weighting functions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105-2848-4818-AD7A-62AA57BB7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xercise 2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Calculate the power spectral density of seat.txt using program poweri.exe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Plot the power spectral density using file: a_ms22hz.psd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Calculate the weighted level of the power spectral density output using program psd_weighted.exe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C1A-6317-4FBB-8F75-40A1299D6F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xercise 3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Calculate the FFT magnitude of seat.txt using program poweri.exe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Plot the power spectral density using file: a_ms2_pk.mag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Calculate the weighted level of the power spectral density output using program FTM_weighted.exe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53F-03C9-41B8-8599-DCC7992D80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ource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514600"/>
            <a:ext cx="44193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Vehicles – air, land &amp;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chinery – mining, construction, industry &amp; agr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743200" cy="25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8A0-63B0-408D-9B56-CF5E70019F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Rail Vehicles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362320" cy="3562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57800" y="2438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362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209680"/>
            <a:ext cx="5181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Primary source of vibration is track irregular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Lateral vibration induced by roll is another source.  Passengers are usually seated well above center of ro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Griffin, Human Vibration, p 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Vibration levels can be reduced by using foam seat cush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Griffin, Human Vibration, p 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AC5-065E-416B-8EC2-0E68CFEBD8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Rail Vehicles Continued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ISO 2631-4:2001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Motion in a fixed-guideway vehicle is characterized by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a) semi-random translational accelerations (in all three axes) and semi-random angular accelerations (about all three axes) due to imperfections in track/wheel surfaces, track alignment errors, etc.,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b) more or less periodic motions due to instability problems (swaying), motions in suspension, long-wave track irregularities, periodic distances between joints, staggered track, etc.,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4C3-6524-4D5D-8CBF-40B70454A8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Rail Vehicles Continued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ISO 2631-4:2001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c) quasi-static magnitudes of acceleration along both lateral and vertical axes and roll (bank) and yaw motion due to alignment and cant (super-elevation) and quasi-static magnitudes of acceleration along the longitudinal axis due to acceleration or braking of the vehicle, and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d) sudden motions due to large imperfections in track or switches, or changes of quasi-static levels (jerk) due to changes in curve radii with or without transition curves.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D4E-8F8A-4F17-8ABD-FED7FDDA05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Bus Driver Test  </a:t>
            </a:r>
            <a:br>
              <a:rPr sz="1800"/>
            </a:b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orkers’ Compensation Board, B.C., Canada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324480" cy="44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BF5-3D49-4786-A9DA-4DAC80F046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xes </a:t>
            </a:r>
            <a:br>
              <a:rPr sz="2400"/>
            </a:b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000520" cy="4143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62520" y="2057400"/>
            <a:ext cx="198576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29400" y="2819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5627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Images courtesy of the Australian Safetyline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BC5-8E11-44A6-AEB0-A69C49209D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Axes (Continued)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19076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6B7-85D6-475B-86E9-8B89DF7C67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05:17:03Z</dcterms:created>
  <dc:creator>The Morgans</dc:creator>
  <dc:description/>
  <dc:language>en-US</dc:language>
  <cp:lastModifiedBy>Thomas Irvine</cp:lastModifiedBy>
  <dcterms:modified xsi:type="dcterms:W3CDTF">2006-04-13T01:45:56Z</dcterms:modified>
  <cp:revision>60</cp:revision>
  <dc:subject/>
  <dc:title>No Slide Title</dc:title>
</cp:coreProperties>
</file>